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96D0-60F8-4869-AB97-D60AA8E47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579C-0AFC-4EEB-8AF0-6F6801F25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4FE-65B7-42E9-9274-BFD0D008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8A0-633F-4DFB-B92B-AA683BD2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561-FDD4-4404-A5D1-0FFC2B89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FD0-CB21-4AEA-A72A-CA088332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9BD-9E4C-4934-9C73-C6D7D281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626-3186-4A06-95DB-00C63FFD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6E1-F10F-4581-85EE-4FF99C82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046-8027-474D-B2B5-B3DDDBDE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15D-B367-4CCA-A0D5-3DD67E32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060-72EA-4DE6-963B-19F2357D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493-EA2E-45D4-8A5B-BAFCB298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B59-8F3E-4F1C-AA2C-DA3B46A0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0CD8-6AD4-4A2D-BCE0-5C71BA3AB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4640" y="64008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152280" y="52578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762120" y="5257800"/>
            <a:ext cx="53316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haty.jpeg"/>
          <p:cNvPicPr/>
          <p:nvPr/>
        </p:nvPicPr>
        <p:blipFill>
          <a:blip r:embed="rId3"/>
          <a:stretch/>
        </p:blipFill>
        <p:spPr>
          <a:xfrm>
            <a:off x="1371600" y="518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sikus.jpeg"/>
          <p:cNvPicPr/>
          <p:nvPr/>
        </p:nvPicPr>
        <p:blipFill>
          <a:blip r:embed="rId4"/>
          <a:stretch/>
        </p:blipFill>
        <p:spPr>
          <a:xfrm>
            <a:off x="1295280" y="586728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hristy.jpeg"/>
          <p:cNvPicPr/>
          <p:nvPr/>
        </p:nvPicPr>
        <p:blipFill>
          <a:blip r:embed="rId5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440000" y="642924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kat.jpg"/>
          <p:cNvPicPr/>
          <p:nvPr/>
        </p:nvPicPr>
        <p:blipFill>
          <a:blip r:embed="rId6"/>
          <a:stretch/>
        </p:blipFill>
        <p:spPr>
          <a:xfrm>
            <a:off x="762120" y="6019920"/>
            <a:ext cx="501480" cy="35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maria.jpg"/>
          <p:cNvPicPr/>
          <p:nvPr/>
        </p:nvPicPr>
        <p:blipFill>
          <a:blip r:embed="rId7"/>
          <a:stretch/>
        </p:blipFill>
        <p:spPr>
          <a:xfrm>
            <a:off x="152280" y="59436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8"/>
          <p:cNvSpPr/>
          <p:nvPr/>
        </p:nvSpPr>
        <p:spPr>
          <a:xfrm>
            <a:off x="218880" y="665496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528064_260799027359258_1600446302_n.jpg"/>
          <p:cNvPicPr/>
          <p:nvPr/>
        </p:nvPicPr>
        <p:blipFill>
          <a:blip r:embed="rId8"/>
          <a:stretch/>
        </p:blipFill>
        <p:spPr>
          <a:xfrm>
            <a:off x="304920" y="152280"/>
            <a:ext cx="130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05:50Z</dcterms:modified>
  <cp:revision>102</cp:revision>
  <dc:subject/>
  <dc:title>Profile</dc:title>
</cp:coreProperties>
</file>